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CB3-8F40-4436-B094-C07075B8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B79D-0DBC-46FB-B434-35CD9FC6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7F0-7D80-466E-A1E6-FF62B67D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358-B36B-4312-8BEB-E6A9F125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126-979E-432E-857F-2080053E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D3F-74EB-4A8F-B3FB-245C70F8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149-4470-4029-B9AC-04235D36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62D-0B88-478E-BCBD-300FAD6C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81E-F996-4654-AE98-68CB5725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973-5DA3-4235-A173-17CA1106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4E4-6358-44D7-9D70-20D6E677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D97-13E7-452A-930C-147C97DC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BE65-5D1F-4AC8-B4B4-390628C6EB95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31640" y="1386000"/>
          <a:ext cx="8244000" cy="4178160"/>
        </p:xfrm>
        <a:graphic>
          <a:graphicData uri="http://schemas.openxmlformats.org/drawingml/2006/table">
            <a:tbl>
              <a:tblPr/>
              <a:tblGrid>
                <a:gridCol w="2281320"/>
                <a:gridCol w="5962680"/>
              </a:tblGrid>
              <a:tr h="26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rsion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Id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, MSRefId, SentAt, From, To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tatu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pdateStatus, 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UpdateMSRef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sselIdentification(OCC=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IMONumber, MMSINumber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CallSign, ShipName, 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oyageInformation (OCC=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ShipCallI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LastPort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PositionInPortOfCall, ETDfrom LastPort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ETAto PortOfCall, ETDfrom 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NextPort, ETANextPor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PreArrival3Days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PossibleAnchorage, PlannedOperations, PlannedWorks, ShipConfiguration, CargoVolumeNature, ConditionCargoBallastTank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PreArrival24hoursNotification Details) (OCC=0,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POBvoyagetowardsPortOfCall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Persons on Board Voyage towards the Port  of Call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TA, Anchorag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DepartureNotification Details(OCC=0,1)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T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HAZMATNotification InfoNonEUdeparture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HazmatOnBoardY/N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ypeOfHAZMATcargo (OCC=0,1), UrlDetails (OCC=0,1) or ContactDetails (OCC=0,1), </a:t>
                      </a: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CargoManifestUrlDetails (OCC=0,1), CargoManifestContactDetails (OCC=0,1)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Notification InfoEUdeparture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OnBoardY/N, TypeOfHAZMATcargo (OCC=0,1), POBvoyagetowardsNextPort, UrlDetails (OCC=0,1) or ContactDetails (OCC=0,1), CargoManifestUrlDetails (OCC=0,1), CargoManifestContactDetails (OCC=0,1)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407280" y="5829480"/>
            <a:ext cx="509400" cy="244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582948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7280" y="6130800"/>
            <a:ext cx="509400" cy="2444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613080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t included at this stag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0" y="5829480"/>
            <a:ext cx="509760" cy="24444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5800" y="582948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0" y="6130800"/>
            <a:ext cx="509760" cy="2444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25800" y="613080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hoice (Mandatory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5829480"/>
            <a:ext cx="509760" cy="2444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7800" y="5829480"/>
            <a:ext cx="15955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, depending on message contex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6-08T17:43:09Z</dcterms:modified>
  <cp:revision>361</cp:revision>
  <dc:subject/>
  <dc:title>Slide 1</dc:title>
</cp:coreProperties>
</file>